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AFEF7-DCD7-4642-A462-9FFEAD860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4F2E1-F1AA-4CA9-AE22-463180FCA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5D05F-DD45-4E36-A803-22FB64B91F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91355-54D0-4302-B4C6-D68A65BF5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CDFA8-45A8-46DC-837B-E4A8A4148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B3824-5E21-48AE-BD14-E7FC83343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E4969-33BE-4AD9-949D-FC142328C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74119-D3C0-43A9-B674-C00D88E6E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352B3-B943-40C2-852C-16A775CA0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4D15C-A1A2-428D-A976-3D20F7F5B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A3A9C-FACE-49F7-8679-4CCE88783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B4278-219B-4D58-9308-FDB04E69E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D55A-E215-4240-92F3-BFFFC78DE7A8}"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071720"/>
            <a:ext cx="7772400" cy="145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ómo funciono el expression on a controversial topic en la gente que escuchó el programa?</a:t>
            </a:r>
            <a:br>
              <a:rPr sz="1600"/>
            </a:br>
            <a:endParaRPr b="0" lang="en-US" sz="1600" spc="-1" strike="noStrike">
              <a:solidFill>
                <a:srgbClr val="000000"/>
              </a:solidFill>
              <a:latin typeface="Calibri"/>
            </a:endParaRPr>
          </a:p>
        </p:txBody>
      </p:sp>
      <p:sp>
        <p:nvSpPr>
          <p:cNvPr id="42" name="PlaceHolder 2"/>
          <p:cNvSpPr>
            <a:spLocks noGrp="1"/>
          </p:cNvSpPr>
          <p:nvPr>
            <p:ph type="subTitle"/>
          </p:nvPr>
        </p:nvSpPr>
        <p:spPr>
          <a:xfrm>
            <a:off x="1071360" y="2499840"/>
            <a:ext cx="6686280" cy="2467080"/>
          </a:xfrm>
          <a:prstGeom prst="rect">
            <a:avLst/>
          </a:prstGeom>
          <a:noFill/>
          <a:ln w="0">
            <a:noFill/>
          </a:ln>
        </p:spPr>
        <p:txBody>
          <a:bodyPr anchor="t">
            <a:noAutofit/>
          </a:bodyPr>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xpressions on a controversial topics según habbermas dentro de la guerra de los mundos, realmente para aquellos tiempos el hablar de marcianos era un tema controversial, asi que primero escucharon este programa de Orson Wells en donde de pronto o sin haber sido  consultado este tema anteriormente crea un interés. orson Wells recurre a este tema fue tan controversial que lo hizo específicamente para llamar la atención de los radioescuchas y comenzar asi que en esta primera etapa que menciona habermas , este programa creo un gran  impacto y miedo que quería seguir escuchando la extrema notici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128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ómo funcionó el expression of an attitude?</a:t>
            </a:r>
            <a:endParaRPr b="0" lang="en-US" sz="1600" spc="-1" strike="noStrike">
              <a:solidFill>
                <a:srgbClr val="000000"/>
              </a:solidFill>
              <a:latin typeface="Calibri"/>
            </a:endParaRPr>
          </a:p>
        </p:txBody>
      </p:sp>
      <p:sp>
        <p:nvSpPr>
          <p:cNvPr id="44" name=""/>
          <p:cNvSpPr txBox="1"/>
          <p:nvPr/>
        </p:nvSpPr>
        <p:spPr>
          <a:xfrm>
            <a:off x="428760" y="2857320"/>
            <a:ext cx="8229600" cy="2400120"/>
          </a:xfrm>
          <a:prstGeom prst="rect">
            <a:avLst/>
          </a:prstGeom>
          <a:noFill/>
          <a:ln w="0">
            <a:noFill/>
          </a:ln>
        </p:spPr>
        <p:txBody>
          <a:bodyPr anchor="t">
            <a:normAutofit/>
          </a:bodyPr>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seria el cuando comienzan a interesarse en el programa, ya que despiertan su interés de ahí un desarrollo del tema por varios días en boca de las personas en donde tratan de buscar una solución o respuesta a la controversia que esta causando caos en la sociedad, inclusive a las personas que no escuchaban la radio optan por comenzar a escucharla gracias a lo que todos hablan de boca en boc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14240" y="85716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ómo funcionó el attitude?</a:t>
            </a:r>
            <a:endParaRPr b="0" lang="en-US" sz="1600" spc="-1" strike="noStrike">
              <a:solidFill>
                <a:srgbClr val="000000"/>
              </a:solidFill>
              <a:latin typeface="Calibri"/>
            </a:endParaRPr>
          </a:p>
        </p:txBody>
      </p:sp>
      <p:sp>
        <p:nvSpPr>
          <p:cNvPr id="46" name="PlaceHolder 2"/>
          <p:cNvSpPr>
            <a:spLocks noGrp="1"/>
          </p:cNvSpPr>
          <p:nvPr>
            <p:ph type="subTitle"/>
          </p:nvPr>
        </p:nvSpPr>
        <p:spPr>
          <a:xfrm>
            <a:off x="1357200" y="2642760"/>
            <a:ext cx="6400800" cy="1752840"/>
          </a:xfrm>
          <a:prstGeom prst="rect">
            <a:avLst/>
          </a:prstGeom>
          <a:noFill/>
          <a:ln w="0">
            <a:noFill/>
          </a:ln>
        </p:spPr>
        <p:txBody>
          <a:bodyPr anchor="t">
            <a:noAutofit/>
          </a:bodyPr>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la actitud que adoptaron las personas a partir de las discusiones en la sociedad hizo que quisieran marcharse de la ciudad por el temor a la llegada de los marcianos , mucha gente inclusive tomaba el teléfono para despedirse de sus familiares, la noticia creo en los radioescuchas la idea de que pronto serian exterminado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14240" y="16426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Cita un ejemplo de las tres partes del postulado expresadas en la pregunta anterior que hayas detectado en algún asunto que haya sido discutido en la opinión pública</a:t>
            </a:r>
            <a:endParaRPr b="0" lang="en-US" sz="1600" spc="-1" strike="noStrike">
              <a:solidFill>
                <a:srgbClr val="000000"/>
              </a:solidFill>
              <a:latin typeface="Calibri"/>
            </a:endParaRPr>
          </a:p>
        </p:txBody>
      </p:sp>
      <p:sp>
        <p:nvSpPr>
          <p:cNvPr id="48" name="PlaceHolder 2"/>
          <p:cNvSpPr>
            <a:spLocks noGrp="1"/>
          </p:cNvSpPr>
          <p:nvPr>
            <p:ph type="subTitle"/>
          </p:nvPr>
        </p:nvSpPr>
        <p:spPr>
          <a:xfrm>
            <a:off x="1357200" y="3642840"/>
            <a:ext cx="6400800" cy="1752840"/>
          </a:xfrm>
          <a:prstGeom prst="rect">
            <a:avLst/>
          </a:prstGeom>
          <a:noFill/>
          <a:ln w="0">
            <a:noFill/>
          </a:ln>
        </p:spPr>
        <p:txBody>
          <a:bodyPr anchor="t">
            <a:noAutofit/>
          </a:bodyPr>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l caso Shantal, alumna asesinada en el colegio salesiano en San Luis potosí.</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3T14:51:29Z</dcterms:created>
  <dc:creator>ana belem sanchez izaguirre</dc:creator>
  <dc:description/>
  <dc:language>en-US</dc:language>
  <cp:lastModifiedBy>ana belem sanchez izaguirre</cp:lastModifiedBy>
  <dcterms:modified xsi:type="dcterms:W3CDTF">2009-09-03T15:02:59Z</dcterms:modified>
  <cp:revision>1</cp:revision>
  <dc:subject/>
  <dc:title>¿Cómo funciono el expression on a controversial topic en la gente que escuchó el programa? </dc:title>
</cp:coreProperties>
</file>